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2808-5580-4B74-A431-F13500CDC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9D11-981D-4D68-8035-B4A1A9A82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4A52-5804-43C2-AB10-A36D617A0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CECD-4FA7-48F1-ABAD-53F87DAB0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2DC1-F220-42D1-AF17-799502E7E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1BE0-29C5-47A0-8BFE-3894E530C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BA79-CF91-4022-BD0F-6712F19D2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A489-0761-4C08-8FA8-6D0F872E6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E292-45DF-49BA-9D86-A3BC5A000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A4D9-C0FA-4C24-9C31-9027B157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537E-13CE-44F8-B24B-0B6554FA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E072-54AD-479D-899A-298AF1D8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53857-F402-47D7-BBB8-99F975D99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042920" y="404640"/>
            <a:ext cx="712944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вумерные </a:t>
            </a:r>
            <a:endParaRPr b="0" lang="en-US" sz="1800" spc="1" strike="noStrike">
              <a:ln w="2232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ассивы</a:t>
            </a:r>
            <a:endParaRPr b="0" lang="en-US" sz="1800" spc="1" strike="noStrike">
              <a:ln w="2232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4500720" y="5373720"/>
            <a:ext cx="4411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Автор: учитель информатики МКОУ Плесской средней общеобразовательной школ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Юдин Андрей Борис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07000" y="4365720"/>
            <a:ext cx="193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Часть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  9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26920" y="1268280"/>
            <a:ext cx="3744720" cy="5184720"/>
            <a:chOff x="826920" y="1268280"/>
            <a:chExt cx="3744720" cy="5184720"/>
          </a:xfrm>
        </p:grpSpPr>
        <p:sp>
          <p:nvSpPr>
            <p:cNvPr id="111" name=""/>
            <p:cNvSpPr/>
            <p:nvPr/>
          </p:nvSpPr>
          <p:spPr>
            <a:xfrm>
              <a:off x="1499760" y="2732040"/>
              <a:ext cx="2346480" cy="647640"/>
            </a:xfrm>
            <a:prstGeom prst="flowChartPreparation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j , 1, 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87320" y="3701880"/>
              <a:ext cx="2065320" cy="725760"/>
            </a:xfrm>
            <a:prstGeom prst="flowChartInputOutpu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Ввод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a 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i , 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698560" y="2492280"/>
              <a:ext cx="21960" cy="23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720520" y="3379680"/>
              <a:ext cx="0" cy="322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626920" y="4427640"/>
              <a:ext cx="0" cy="325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1125000" y="4753080"/>
              <a:ext cx="1501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1125360" y="3053880"/>
              <a:ext cx="0" cy="1698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125360" y="3054240"/>
              <a:ext cx="37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46240" y="3054240"/>
              <a:ext cx="376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22440" y="3054240"/>
              <a:ext cx="0" cy="210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826920" y="5156280"/>
              <a:ext cx="3395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74560" y="1773000"/>
              <a:ext cx="2346120" cy="719280"/>
            </a:xfrm>
            <a:prstGeom prst="flowChartPreparation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i , 1, 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698560" y="1268280"/>
              <a:ext cx="0" cy="50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26920" y="213192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826920" y="2131560"/>
              <a:ext cx="0" cy="302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779640" y="2131920"/>
              <a:ext cx="79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71640" y="2131920"/>
              <a:ext cx="0" cy="360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2698200" y="5732280"/>
              <a:ext cx="187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698560" y="5732280"/>
              <a:ext cx="0" cy="72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-5760" y="620640"/>
            <a:ext cx="510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Блок-схема заполнения с клавиат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03640" y="1052640"/>
            <a:ext cx="3745080" cy="1800000"/>
          </a:xfrm>
          <a:prstGeom prst="wedgeRoundRectCallout">
            <a:avLst>
              <a:gd name="adj1" fmla="val -93069"/>
              <a:gd name="adj2" fmla="val -75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Цикл отвечающий за перебор строк. (Внешний цик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76720" y="4149720"/>
            <a:ext cx="3672000" cy="1727280"/>
          </a:xfrm>
          <a:prstGeom prst="wedgeRoundRectCallout">
            <a:avLst>
              <a:gd name="adj1" fmla="val -87310"/>
              <a:gd name="adj2" fmla="val -10303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Цикл отвечающий за перебор ячеек в каждой строке. (Внутренний цик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47628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Заполнение массива случайными числа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34440" y="1267920"/>
            <a:ext cx="83736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 := 1 to 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do 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j := 1 to 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do begi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[i, j] := random(2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) - 10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(a[i, j]:6)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;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ln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;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43280" y="3141720"/>
            <a:ext cx="3384360" cy="649080"/>
          </a:xfrm>
          <a:prstGeom prst="rect">
            <a:avLst/>
          </a:prstGeom>
          <a:noFill/>
          <a:ln w="349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76720" y="4149720"/>
            <a:ext cx="3672000" cy="1727280"/>
          </a:xfrm>
          <a:prstGeom prst="wedgeRoundRectCallout">
            <a:avLst>
              <a:gd name="adj1" fmla="val -78620"/>
              <a:gd name="adj2" fmla="val -70402"/>
              <a:gd name="adj3" fmla="val 16667"/>
            </a:avLst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rite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без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N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выводит элементы массива в ст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50920" y="4437000"/>
            <a:ext cx="2016360" cy="647640"/>
          </a:xfrm>
          <a:prstGeom prst="rect">
            <a:avLst/>
          </a:prstGeom>
          <a:noFill/>
          <a:ln w="414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003640" y="3645000"/>
            <a:ext cx="3240360" cy="2520720"/>
          </a:xfrm>
          <a:prstGeom prst="wedgeRoundRectCallout">
            <a:avLst>
              <a:gd name="adj1" fmla="val -79004"/>
              <a:gd name="adj2" fmla="val 62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огда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-я строка закончилась, пишем пустой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riteLN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для перехода на новую ст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284720" y="4076640"/>
            <a:ext cx="453528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 1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47640" y="1989000"/>
            <a:ext cx="2346480" cy="64800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 , 1,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19280" y="3933720"/>
            <a:ext cx="2232000" cy="72576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ывод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 ,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746440" y="1749600"/>
            <a:ext cx="22320" cy="239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68760" y="2637000"/>
            <a:ext cx="0" cy="322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00360" y="4653000"/>
            <a:ext cx="0" cy="325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187280" y="4941720"/>
            <a:ext cx="1501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1172880" y="2311560"/>
            <a:ext cx="14040" cy="2630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73240" y="2311560"/>
            <a:ext cx="37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94120" y="2311560"/>
            <a:ext cx="376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70320" y="2311560"/>
            <a:ext cx="14400" cy="298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899640" y="5300640"/>
            <a:ext cx="339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22440" y="1030320"/>
            <a:ext cx="2346120" cy="71928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 , 1,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46440" y="52560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74800" y="138924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874800" y="1388880"/>
            <a:ext cx="25200" cy="3911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27520" y="1389240"/>
            <a:ext cx="79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19520" y="1389240"/>
            <a:ext cx="23760" cy="427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771640" y="5661000"/>
            <a:ext cx="1873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71640" y="566100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692360" y="2924280"/>
            <a:ext cx="2160360" cy="792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 , j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учайное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1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1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71640" y="3716280"/>
            <a:ext cx="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003640" y="1052640"/>
            <a:ext cx="3745080" cy="1800000"/>
          </a:xfrm>
          <a:prstGeom prst="wedgeRoundRectCallout">
            <a:avLst>
              <a:gd name="adj1" fmla="val -91032"/>
              <a:gd name="adj2" fmla="val -2707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Цикл отвечающий за перебор строк. (Внешний цик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076720" y="4149720"/>
            <a:ext cx="3672000" cy="1727280"/>
          </a:xfrm>
          <a:prstGeom prst="wedgeRoundRectCallout">
            <a:avLst>
              <a:gd name="adj1" fmla="val -90208"/>
              <a:gd name="adj2" fmla="val -1498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Цикл отвечающий за перебор ячеек в каждой строке. (Внутренний цик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2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9400" y="476280"/>
            <a:ext cx="61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Заполнение массива по правил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-15120" y="1196640"/>
            <a:ext cx="73558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 := 1 to 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do 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j := 1 to 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do begi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[i, j] :=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ФОРМУЛА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(a[i, j]:6)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;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ln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;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1340280"/>
            <a:ext cx="8532720" cy="3993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полнить произвольный массив размером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 x N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N&lt;10) по следующему правил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1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3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4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5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9640" y="1127160"/>
            <a:ext cx="8604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lrScr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('ВВеди N = ');Readln(n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:=1 to n do 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j:=1 to n do 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[i,j]:=i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(a[i,j]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:4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ln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76720" y="3357720"/>
            <a:ext cx="1871640" cy="64764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227640" y="3284640"/>
            <a:ext cx="2737080" cy="1800000"/>
          </a:xfrm>
          <a:prstGeom prst="wedgeRoundRectCallout">
            <a:avLst>
              <a:gd name="adj1" fmla="val -80740"/>
              <a:gd name="adj2" fmla="val -30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Значение элемента в каждой ячейке строки равно номеру стро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995640" y="1052640"/>
            <a:ext cx="482616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3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4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 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16000" y="1268280"/>
            <a:ext cx="64764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16000" y="177336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16000" y="227664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63640" y="1268280"/>
            <a:ext cx="64764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411280" y="1268280"/>
            <a:ext cx="64800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63640" y="177336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411280" y="1773360"/>
            <a:ext cx="64800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63640" y="227664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411280" y="2276640"/>
            <a:ext cx="64800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59280" y="1268280"/>
            <a:ext cx="64764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059280" y="177336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059280" y="227664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116000" y="278136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763640" y="278136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411280" y="2781360"/>
            <a:ext cx="64800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059280" y="278136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85120" y="765000"/>
            <a:ext cx="238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    2    3    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1280" y="1268280"/>
            <a:ext cx="503280" cy="23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3300"/>
                </a:solidFill>
                <a:latin typeface="Arial"/>
              </a:rPr>
              <a:t> 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3300"/>
                </a:solidFill>
                <a:latin typeface="Arial"/>
              </a:rPr>
              <a:t>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3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74840" y="907920"/>
            <a:ext cx="4813560" cy="1068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Главная диагонал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I=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52800" y="2205000"/>
            <a:ext cx="5057640" cy="1068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Побочная диагонал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I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+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J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=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N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0920" y="3461040"/>
            <a:ext cx="8642160" cy="3291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ить произвольный массив размером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x N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&lt;10) по следующему правилу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0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01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0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0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7840" y="204120"/>
            <a:ext cx="8966160" cy="61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ClrScr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Write('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ВВеди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N = ');Readln(n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For i:=1 to n do 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For j:=1 to n do 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if (i+j = n+1) then a[i,j]:=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                           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else a[i,j]:=0;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    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write(a[i,j]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writeln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771640" y="2708280"/>
            <a:ext cx="5545440" cy="1225440"/>
          </a:xfrm>
          <a:prstGeom prst="rect">
            <a:avLst/>
          </a:prstGeom>
          <a:noFill/>
          <a:ln w="349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580000" y="4005360"/>
            <a:ext cx="3095640" cy="1944720"/>
          </a:xfrm>
          <a:prstGeom prst="wedgeRoundRectCallout">
            <a:avLst>
              <a:gd name="adj1" fmla="val -80666"/>
              <a:gd name="adj2" fmla="val -54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Если побочная диагональ то заполнить ячейку 1 во всех остальных случаях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4032000" cy="35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73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7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79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1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82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1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7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0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1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06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8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09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1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4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15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3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 1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516720" y="2133720"/>
            <a:ext cx="2449440" cy="2950920"/>
          </a:xfrm>
          <a:prstGeom prst="wedgeRoundRectCallout">
            <a:avLst>
              <a:gd name="adj1" fmla="val -73009"/>
              <a:gd name="adj2" fmla="val -3149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Фрагмент блок-схемы задачи заполнения побочной диагонали единиц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771640" y="1989000"/>
            <a:ext cx="1719360" cy="50976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 , 1,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627280" y="4581360"/>
            <a:ext cx="1944720" cy="57168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вод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i , 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35280" y="1844640"/>
            <a:ext cx="17640" cy="189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64000" y="5950080"/>
            <a:ext cx="0" cy="25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971640" y="5589720"/>
            <a:ext cx="468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332000" y="2276280"/>
            <a:ext cx="0" cy="309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332000" y="2276640"/>
            <a:ext cx="1496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00720" y="2276640"/>
            <a:ext cx="1150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51640" y="2276640"/>
            <a:ext cx="0" cy="331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2410920" y="4365720"/>
            <a:ext cx="230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71640" y="1268280"/>
            <a:ext cx="1717920" cy="56520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 , 1,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71640" y="1557360"/>
            <a:ext cx="1842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971640" y="1557000"/>
            <a:ext cx="0" cy="403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500720" y="1557360"/>
            <a:ext cx="143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563640" y="595008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635280" y="515772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619280" y="3429000"/>
            <a:ext cx="1582560" cy="6224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i , j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549360"/>
            <a:ext cx="1512720" cy="57132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вод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35280" y="33336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635280" y="112536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916360" y="2637000"/>
            <a:ext cx="1439640" cy="863280"/>
          </a:xfrm>
          <a:prstGeom prst="flowChartDecisi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+j=N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356000" y="306864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2410920" y="3068640"/>
            <a:ext cx="505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924360" y="3429000"/>
            <a:ext cx="1582560" cy="6224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i , j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411280" y="306864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716360" y="306864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411280" y="407664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716360" y="400536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635280" y="436572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1332000" y="5373720"/>
            <a:ext cx="230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940360" y="1557360"/>
            <a:ext cx="0" cy="439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286520" y="2637000"/>
            <a:ext cx="4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486160" y="2708280"/>
            <a:ext cx="5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635280" y="24922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 1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0920" y="9079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771640" y="9079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92360" y="9079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332000" y="9079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11280" y="90792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0920" y="148428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71640" y="148428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492360" y="148428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332000" y="148428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11280" y="148428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050920" y="206064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771640" y="206064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206064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332000" y="206064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11280" y="206064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050920" y="263700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771640" y="2637000"/>
            <a:ext cx="72072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492360" y="263700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332000" y="263700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11280" y="263700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050920" y="3213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771640" y="3213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492360" y="321300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Times New Roman"/>
              </a:rPr>
              <a:t>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332000" y="3213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11280" y="3213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076720" y="765000"/>
            <a:ext cx="3672000" cy="2592720"/>
          </a:xfrm>
          <a:prstGeom prst="wedgeRoundRectCallout">
            <a:avLst>
              <a:gd name="adj1" fmla="val -74643"/>
              <a:gd name="adj2" fmla="val -915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Удовлетворяет неравен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Courier New"/>
              </a:rPr>
              <a:t>i &lt; j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132000" y="3976560"/>
            <a:ext cx="3672000" cy="2621160"/>
          </a:xfrm>
          <a:prstGeom prst="wedgeRoundRectCallout">
            <a:avLst>
              <a:gd name="adj1" fmla="val -91333"/>
              <a:gd name="adj2" fmla="val -5702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Удовлетворяет неравен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Courier New"/>
              </a:rPr>
              <a:t>i </a:t>
            </a:r>
            <a:r>
              <a:rPr b="1" lang="en-US" sz="5400" spc="-1" strike="noStrike">
                <a:solidFill>
                  <a:srgbClr val="0000ff"/>
                </a:solidFill>
                <a:latin typeface="Courier New"/>
              </a:rPr>
              <a:t>&gt;</a:t>
            </a:r>
            <a:r>
              <a:rPr b="1" lang="ru-RU" sz="5400" spc="-1" strike="noStrike">
                <a:solidFill>
                  <a:srgbClr val="0000ff"/>
                </a:solidFill>
                <a:latin typeface="Courier New"/>
              </a:rPr>
              <a:t> j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79280" y="1052640"/>
            <a:ext cx="2872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4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77520" y="476280"/>
            <a:ext cx="33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          2          3        4  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7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58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0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61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64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6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67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9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70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2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73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5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76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79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82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4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85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5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496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8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499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1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02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4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05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7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08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0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11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3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14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6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17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9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20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2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23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1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372360" y="62064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093080" y="62064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932360" y="62064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653080" y="62064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813800" y="62064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372360" y="1197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653080" y="1197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813800" y="1197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093080" y="119700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932360" y="1197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72360" y="1773360"/>
            <a:ext cx="72072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093080" y="177336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813800" y="177336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53080" y="177336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932360" y="177336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372360" y="234936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653080" y="234936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813800" y="234936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093080" y="234936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932360" y="234936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372360" y="29257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29257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932360" y="292572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653080" y="29257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813800" y="29257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24000" y="1052640"/>
            <a:ext cx="3671640" cy="2592360"/>
          </a:xfrm>
          <a:prstGeom prst="wedgeRoundRectCallout">
            <a:avLst>
              <a:gd name="adj1" fmla="val 73476"/>
              <a:gd name="adj2" fmla="val -5006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Удовлетворяет неравен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ourier New"/>
              </a:rPr>
              <a:t>i</a:t>
            </a:r>
            <a:r>
              <a:rPr b="1" lang="en-US" sz="4800" spc="-1" strike="noStrike">
                <a:solidFill>
                  <a:srgbClr val="0000ff"/>
                </a:solidFill>
                <a:latin typeface="Courier New"/>
              </a:rPr>
              <a:t>+j</a:t>
            </a:r>
            <a:r>
              <a:rPr b="1" lang="ru-RU" sz="48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4800" spc="-1" strike="noStrike">
                <a:solidFill>
                  <a:srgbClr val="0000ff"/>
                </a:solidFill>
                <a:latin typeface="Courier New"/>
              </a:rPr>
              <a:t>n+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932360" y="4005360"/>
            <a:ext cx="3672000" cy="2592360"/>
          </a:xfrm>
          <a:prstGeom prst="wedgeRoundRectCallout">
            <a:avLst>
              <a:gd name="adj1" fmla="val 7111"/>
              <a:gd name="adj2" fmla="val -70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Удовлетворяет неравен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ourier New"/>
              </a:rPr>
              <a:t>i</a:t>
            </a:r>
            <a:r>
              <a:rPr b="1" lang="en-US" sz="4800" spc="-1" strike="noStrike">
                <a:solidFill>
                  <a:srgbClr val="0000ff"/>
                </a:solidFill>
                <a:latin typeface="Courier New"/>
              </a:rPr>
              <a:t>+j&gt;n+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925520" y="260280"/>
            <a:ext cx="33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          2          3        4  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8604360" y="765000"/>
            <a:ext cx="2872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4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5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36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8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39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1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42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4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45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7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48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0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51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3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54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6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57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9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60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2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63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3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74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6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77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9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80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2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83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5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86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8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89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1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92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4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95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7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98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0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601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282920" y="2205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003640" y="2205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564000" y="2205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843280" y="220500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282920" y="278136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003640" y="278136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724360" y="278136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564000" y="278136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843280" y="278136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282920" y="3357720"/>
            <a:ext cx="72072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003640" y="335772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724360" y="335772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564000" y="335772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843280" y="335772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282920" y="39337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003640" y="393372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724360" y="39337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843280" y="39337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2920" y="451008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003640" y="451008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724360" y="451008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Times New Roman"/>
              </a:rPr>
              <a:t>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64000" y="451008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843280" y="451008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411280" y="2349360"/>
            <a:ext cx="2876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4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909520" y="1844640"/>
            <a:ext cx="33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          2          3        4  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564000" y="393372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843280" y="4508640"/>
            <a:ext cx="72072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003640" y="278136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724360" y="220500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195640" y="836640"/>
            <a:ext cx="5473440" cy="719280"/>
          </a:xfrm>
          <a:prstGeom prst="wedgeRoundRectCallout">
            <a:avLst>
              <a:gd name="adj1" fmla="val -5657"/>
              <a:gd name="adj2" fmla="val 14227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(i+j&lt;n+1)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And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(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i&lt;j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515280" y="2205000"/>
            <a:ext cx="2628720" cy="1152720"/>
          </a:xfrm>
          <a:prstGeom prst="wedgeRoundRectCallout">
            <a:avLst>
              <a:gd name="adj1" fmla="val -54347"/>
              <a:gd name="adj2" fmla="val 10165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(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i+j&gt;n+1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)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And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(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i&lt;j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835280" y="5661000"/>
            <a:ext cx="5473440" cy="719280"/>
          </a:xfrm>
          <a:prstGeom prst="wedgeRoundRectCallout">
            <a:avLst>
              <a:gd name="adj1" fmla="val 143"/>
              <a:gd name="adj2" fmla="val -13189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(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i+j&gt;n+1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)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And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(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i&gt;j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2205000"/>
            <a:ext cx="2629080" cy="1152720"/>
          </a:xfrm>
          <a:prstGeom prst="wedgeRoundRectCallout">
            <a:avLst>
              <a:gd name="adj1" fmla="val 57546"/>
              <a:gd name="adj2" fmla="val 858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(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i+j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n+1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)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And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(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i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&gt;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j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482920" y="260280"/>
            <a:ext cx="428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Системы неравенст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3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614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6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617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9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620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2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623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3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34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6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37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9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40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2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43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3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654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6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657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9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660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2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663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3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674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6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677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9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680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2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683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0920" y="546120"/>
            <a:ext cx="850104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ить произвольный массив размером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x N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&lt;10) по следующему правил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1" lang="ru-RU" sz="2400" spc="-1" strike="noStrike">
                <a:solidFill>
                  <a:srgbClr val="ff3300"/>
                </a:solidFill>
                <a:latin typeface="Arial Black"/>
                <a:ea typeface="Times New Roman"/>
              </a:rPr>
              <a:t>0000</a:t>
            </a:r>
            <a:r>
              <a:rPr b="1" lang="ru-RU" sz="24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                  </a:t>
            </a:r>
            <a:r>
              <a:rPr b="1" lang="ru-RU" sz="2400" spc="-1" strike="noStrike">
                <a:solidFill>
                  <a:srgbClr val="ff3300"/>
                </a:solidFill>
                <a:latin typeface="Arial Black"/>
                <a:ea typeface="Times New Roman"/>
              </a:rPr>
              <a:t>000</a:t>
            </a:r>
            <a:r>
              <a:rPr b="1" lang="ru-RU" sz="24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                  </a:t>
            </a:r>
            <a:r>
              <a:rPr b="1" lang="ru-RU" sz="2400" spc="-1" strike="noStrike">
                <a:solidFill>
                  <a:srgbClr val="ff3300"/>
                </a:solidFill>
                <a:latin typeface="Arial Black"/>
                <a:ea typeface="Times New Roman"/>
              </a:rPr>
              <a:t>00</a:t>
            </a:r>
            <a:r>
              <a:rPr b="1" lang="ru-RU" sz="24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                  </a:t>
            </a:r>
            <a:r>
              <a:rPr b="1" lang="ru-RU" sz="2400" spc="-1" strike="noStrike">
                <a:solidFill>
                  <a:srgbClr val="ff3300"/>
                </a:solidFill>
                <a:latin typeface="Arial Black"/>
                <a:ea typeface="Times New Roman"/>
              </a:rPr>
              <a:t>000</a:t>
            </a:r>
            <a:r>
              <a:rPr b="1" lang="ru-RU" sz="24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                  </a:t>
            </a:r>
            <a:r>
              <a:rPr b="1" lang="ru-RU" sz="2400" spc="-1" strike="noStrike">
                <a:solidFill>
                  <a:srgbClr val="ff3300"/>
                </a:solidFill>
                <a:latin typeface="Arial Black"/>
                <a:ea typeface="Times New Roman"/>
              </a:rPr>
              <a:t>0000</a:t>
            </a:r>
            <a:r>
              <a:rPr b="1" lang="ru-RU" sz="24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500720" y="3573360"/>
            <a:ext cx="3527280" cy="2376720"/>
          </a:xfrm>
          <a:prstGeom prst="wedgeRoundRectCallout">
            <a:avLst>
              <a:gd name="adj1" fmla="val -67013"/>
              <a:gd name="adj2" fmla="val -107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Это пересечение двух множеств. Элементы лежащие на и ниже побочной диагонали и элементы лежащие на и выше главной диагона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476280"/>
            <a:ext cx="9001080" cy="605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rite(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'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ВВеди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N = ');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Readln(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For i:=1 to n do 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For j:=1 to n do 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f (i+j&gt;=n+1) and (i&lt;=j) then a[i,j]:=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                            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else a[i,j]:=0;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rite(a[i,j]:2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ritel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55640" y="2276640"/>
            <a:ext cx="8064360" cy="100800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292720" y="3789360"/>
            <a:ext cx="3166920" cy="1224000"/>
          </a:xfrm>
          <a:prstGeom prst="wedgeRoundRectCallout">
            <a:avLst>
              <a:gd name="adj1" fmla="val -70953"/>
              <a:gd name="adj2" fmla="val -9085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роверяем условие принадлежности данному множеств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4788000" y="3429000"/>
            <a:ext cx="310824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0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50920" y="620640"/>
            <a:ext cx="8496360" cy="1373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CyrillicUniversity"/>
              </a:rPr>
              <a:t>В математик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yrillicUniversity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CyrillicUniversity"/>
              </a:rPr>
              <a:t>таблицы чисел, состоящие из строк и столбцов называютс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yrillicUniversity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CyrillicUniversity"/>
              </a:rPr>
              <a:t>матрицам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yrillicUniversity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CyrillicUniversity"/>
              </a:rPr>
              <a:t>и записываются в круглых скобках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yrillicUniversit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908000" y="2349360"/>
                <a:ext cx="4572000" cy="352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7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4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67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89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9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7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57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6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5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8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5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Матрицы                                                                                   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Сумма элементов                                                                   1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50920" y="763200"/>
            <a:ext cx="83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олнить двумерный массив N 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лучайными числами из интервала [-10 ; 10] и найти сумму элементов  массива лежащих  на главной диагона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182600" y="404640"/>
            <a:ext cx="473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Один или два прохода по массив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0920" y="489600"/>
            <a:ext cx="8424720" cy="63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ff"/>
                </a:solidFill>
                <a:uFillTx/>
                <a:latin typeface="Times New Roman"/>
              </a:rPr>
              <a:t>Первый способ. Один проход по масси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lrSc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('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ВВеди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N = ');Readln(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s:=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:=1 to n do 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j:=1 to n do 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[i,j]:=random(20)-1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(a[i,j]:4);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f (i=j) then s:=s+ a[i,j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l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ln('Сумма элементов  =',s:5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059280" y="3429000"/>
            <a:ext cx="4321080" cy="100800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435640" y="1844640"/>
            <a:ext cx="3384360" cy="1297080"/>
          </a:xfrm>
          <a:prstGeom prst="wedgeRoundRectCallout">
            <a:avLst>
              <a:gd name="adj1" fmla="val -33490"/>
              <a:gd name="adj2" fmla="val 7080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Заполняем случайными числами и выводим на экр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059280" y="4437000"/>
            <a:ext cx="4321080" cy="50472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859280" y="5373720"/>
            <a:ext cx="3384720" cy="1484280"/>
          </a:xfrm>
          <a:prstGeom prst="wedgeRoundRectCallout">
            <a:avLst>
              <a:gd name="adj1" fmla="val -43435"/>
              <a:gd name="adj2" fmla="val -783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И сразу же находим сумму элементов лежащих на главной диагона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395280"/>
            <a:ext cx="9144000" cy="645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ff"/>
                </a:solidFill>
                <a:uFillTx/>
                <a:latin typeface="Times New Roman"/>
              </a:rPr>
              <a:t>Второй способ. Два прохода по масси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Write(' 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ВВеди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 N = ');Readln(n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s:=0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For i:=1 to n do beg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For j:=1 to n do beg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a[i,j]:=random(20)-10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                    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write(a[i,j]:4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writeln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For i:=1 to n 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For j:=1 to n 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if (i=j) then s:=s+ a[i,j]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writeln('Сумма элементов</a:t>
            </a:r>
            <a:r>
              <a:rPr b="1" lang="ru-RU" sz="3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=',s:5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50920" y="1844640"/>
            <a:ext cx="5473440" cy="316872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867280" y="981000"/>
            <a:ext cx="3024360" cy="1582920"/>
          </a:xfrm>
          <a:prstGeom prst="wedgeRoundRectCallout">
            <a:avLst>
              <a:gd name="adj1" fmla="val -53833"/>
              <a:gd name="adj2" fmla="val 8851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ервый проход. Заполняем массив и выводим его на экр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50920" y="5084640"/>
            <a:ext cx="5473440" cy="129708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796000" y="4365720"/>
            <a:ext cx="3024000" cy="861840"/>
          </a:xfrm>
          <a:prstGeom prst="wedgeRoundRectCallout">
            <a:avLst>
              <a:gd name="adj1" fmla="val -52833"/>
              <a:gd name="adj2" fmla="val 1188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Второй проход. Находим сум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79280" y="907920"/>
            <a:ext cx="8785440" cy="388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Times New Roman"/>
              </a:rPr>
              <a:t>Замеч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Если нужно что то сделать толь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с главной диагональю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то можно обойтись без вложенных цик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ourier New"/>
              </a:rPr>
              <a:t>For </a:t>
            </a:r>
            <a:r>
              <a:rPr b="1" lang="en-US" sz="3600" spc="-1" strike="noStrike">
                <a:solidFill>
                  <a:srgbClr val="0000ff"/>
                </a:solidFill>
                <a:latin typeface="Courier New"/>
              </a:rPr>
              <a:t>i</a:t>
            </a:r>
            <a:r>
              <a:rPr b="1" lang="ru-RU" sz="3600" spc="-1" strike="noStrike">
                <a:solidFill>
                  <a:srgbClr val="0000ff"/>
                </a:solidFill>
                <a:latin typeface="Courier New"/>
              </a:rPr>
              <a:t>:=1 to n do</a:t>
            </a:r>
            <a:r>
              <a:rPr b="1" lang="en-US" sz="36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ru-RU" sz="3600" spc="-1" strike="noStrike">
                <a:solidFill>
                  <a:srgbClr val="ff3300"/>
                </a:solidFill>
                <a:latin typeface="Courier New"/>
              </a:rPr>
              <a:t>s:=s+ a[i,</a:t>
            </a:r>
            <a:r>
              <a:rPr b="1" lang="en-US" sz="3600" spc="-1" strike="noStrike">
                <a:solidFill>
                  <a:srgbClr val="ff3300"/>
                </a:solidFill>
                <a:latin typeface="Courier New"/>
              </a:rPr>
              <a:t>i</a:t>
            </a:r>
            <a:r>
              <a:rPr b="1" lang="ru-RU" sz="3600" spc="-1" strike="noStrike">
                <a:solidFill>
                  <a:srgbClr val="ff3300"/>
                </a:solidFill>
                <a:latin typeface="Courier New"/>
              </a:rPr>
              <a:t>]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Сумма элементов                                                                    2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501920" y="2565360"/>
            <a:ext cx="2255760" cy="43200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 , 1,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639800" y="3884760"/>
            <a:ext cx="1986120" cy="51120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вод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i , 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654280" y="2351160"/>
            <a:ext cx="20520" cy="168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674800" y="2973240"/>
            <a:ext cx="0" cy="227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80000" y="2781360"/>
            <a:ext cx="187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476360" y="1916280"/>
            <a:ext cx="2257560" cy="43488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 , 1,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639800" y="3176640"/>
            <a:ext cx="2078280" cy="555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i , j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лучайное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-10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;10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678040" y="3732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619280" y="476280"/>
            <a:ext cx="1985760" cy="51120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вод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908000" y="1125360"/>
            <a:ext cx="1440000" cy="5558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627280" y="17002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627280" y="981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627280" y="33336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979640" y="4508640"/>
            <a:ext cx="1440000" cy="863640"/>
          </a:xfrm>
          <a:prstGeom prst="flowChartDecisi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  = 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708360" y="4724280"/>
            <a:ext cx="1728720" cy="5558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 =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i , 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419640" y="494172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572000" y="5300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1116000" y="5516640"/>
            <a:ext cx="345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1116000" y="2781360"/>
            <a:ext cx="0" cy="273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700360" y="537372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700360" y="436572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116000" y="278136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651640" y="2781360"/>
            <a:ext cx="0" cy="28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826920" y="5661000"/>
            <a:ext cx="482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826920" y="2133720"/>
            <a:ext cx="0" cy="352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826920" y="2133720"/>
            <a:ext cx="649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708360" y="2133720"/>
            <a:ext cx="2158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867280" y="2133720"/>
            <a:ext cx="0" cy="367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627280" y="5805360"/>
            <a:ext cx="3240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547640" y="6021360"/>
            <a:ext cx="1986120" cy="51120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вод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627280" y="5805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627280" y="652464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278520" y="4581360"/>
            <a:ext cx="4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981440" y="5157720"/>
            <a:ext cx="5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427640" y="476280"/>
            <a:ext cx="441144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Нахождение суммы элементов на главной диагонали за один проход по масси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Сумма элементов                                                                    2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466200" y="333360"/>
            <a:ext cx="3674160" cy="5183280"/>
            <a:chOff x="466200" y="333360"/>
            <a:chExt cx="3674160" cy="5183280"/>
          </a:xfrm>
        </p:grpSpPr>
        <p:sp>
          <p:nvSpPr>
            <p:cNvPr id="389" name=""/>
            <p:cNvSpPr/>
            <p:nvPr/>
          </p:nvSpPr>
          <p:spPr>
            <a:xfrm>
              <a:off x="1141560" y="2709720"/>
              <a:ext cx="2255760" cy="432000"/>
            </a:xfrm>
            <a:prstGeom prst="flowChartPreparation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j , 1, 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279440" y="4029120"/>
              <a:ext cx="1986120" cy="511200"/>
            </a:xfrm>
            <a:prstGeom prst="flowChartInputOutpu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Вывод 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a 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i , j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293920" y="2495520"/>
              <a:ext cx="20520" cy="168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314440" y="3117960"/>
              <a:ext cx="0" cy="226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419640" y="292572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16000" y="2060640"/>
              <a:ext cx="2257560" cy="434880"/>
            </a:xfrm>
            <a:prstGeom prst="flowChartPreparation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i , 1, 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79440" y="3321000"/>
              <a:ext cx="2078280" cy="5558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 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i , j</a:t>
              </a: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случайное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[</a:t>
              </a: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;10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317680" y="38768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258920" y="620640"/>
              <a:ext cx="1985760" cy="511200"/>
            </a:xfrm>
            <a:prstGeom prst="flowChartInputOutpu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Ввод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547640" y="1270080"/>
              <a:ext cx="1440000" cy="5554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 = 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266920" y="184464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266920" y="1125360"/>
              <a:ext cx="0" cy="14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268360" y="5086440"/>
              <a:ext cx="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755280" y="4653000"/>
              <a:ext cx="158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755640" y="2925720"/>
              <a:ext cx="0" cy="172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340000" y="4510080"/>
              <a:ext cx="0" cy="1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55640" y="2925720"/>
              <a:ext cx="43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24360" y="2925720"/>
              <a:ext cx="0" cy="18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468360" y="4797360"/>
              <a:ext cx="345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 flipV="1">
              <a:off x="466200" y="2278080"/>
              <a:ext cx="1800" cy="251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66560" y="2278080"/>
              <a:ext cx="64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348000" y="2278080"/>
              <a:ext cx="79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140360" y="2278080"/>
              <a:ext cx="0" cy="280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2268360" y="5086440"/>
              <a:ext cx="187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268360" y="333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268360" y="5229360"/>
              <a:ext cx="287640" cy="28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6553080" y="1413000"/>
            <a:ext cx="28728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4785840" y="1700280"/>
            <a:ext cx="3999240" cy="5040360"/>
            <a:chOff x="4785840" y="1700280"/>
            <a:chExt cx="3999240" cy="5040360"/>
          </a:xfrm>
        </p:grpSpPr>
        <p:sp>
          <p:nvSpPr>
            <p:cNvPr id="417" name=""/>
            <p:cNvSpPr/>
            <p:nvPr/>
          </p:nvSpPr>
          <p:spPr>
            <a:xfrm>
              <a:off x="5460840" y="2565360"/>
              <a:ext cx="2256120" cy="432000"/>
            </a:xfrm>
            <a:prstGeom prst="flowChartPreparation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j , 1, 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613560" y="2351160"/>
              <a:ext cx="20520" cy="168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738920" y="2781360"/>
              <a:ext cx="614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435640" y="1916280"/>
              <a:ext cx="2257560" cy="434880"/>
            </a:xfrm>
            <a:prstGeom prst="flowChartPreparation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i , 1, 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586560" y="170028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904000" y="3139920"/>
              <a:ext cx="1439640" cy="863640"/>
            </a:xfrm>
            <a:prstGeom prst="flowChartDecision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i  = j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761080" y="4292640"/>
              <a:ext cx="1728720" cy="5554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S =S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+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a </a:t>
              </a:r>
              <a:r>
                <a:rPr b="1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i , j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624720" y="4005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5111280" y="5157720"/>
              <a:ext cx="151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5111640" y="2781000"/>
              <a:ext cx="0" cy="23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624720" y="486900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111640" y="2781360"/>
              <a:ext cx="3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353440" y="2781360"/>
              <a:ext cx="0" cy="28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4785840" y="5661000"/>
              <a:ext cx="3567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4786200" y="2133720"/>
              <a:ext cx="0" cy="352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786200" y="2133720"/>
              <a:ext cx="64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7667640" y="2131560"/>
              <a:ext cx="11174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785080" y="2131920"/>
              <a:ext cx="0" cy="367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6586200" y="5805360"/>
              <a:ext cx="219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06920" y="6021360"/>
              <a:ext cx="1986120" cy="511200"/>
            </a:xfrm>
            <a:prstGeom prst="flowChartInputOutpu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Вывод 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586560" y="580536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696000" y="39322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546880" y="3213000"/>
              <a:ext cx="57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5111280" y="3573360"/>
              <a:ext cx="79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624720" y="2997360"/>
              <a:ext cx="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553080" y="652464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3419640" y="549360"/>
            <a:ext cx="547344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Нахождение суммы элементов на главной диагонали за два прох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Сумма элементов                                                                    2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468360" y="836640"/>
            <a:ext cx="3673440" cy="5183280"/>
            <a:chOff x="468360" y="836640"/>
            <a:chExt cx="3673440" cy="5183280"/>
          </a:xfrm>
        </p:grpSpPr>
        <p:sp>
          <p:nvSpPr>
            <p:cNvPr id="446" name=""/>
            <p:cNvSpPr/>
            <p:nvPr/>
          </p:nvSpPr>
          <p:spPr>
            <a:xfrm>
              <a:off x="1143000" y="3213000"/>
              <a:ext cx="2255400" cy="432000"/>
            </a:xfrm>
            <a:prstGeom prst="flowChartPreparation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j , 1, 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280880" y="4532400"/>
              <a:ext cx="1985760" cy="511200"/>
            </a:xfrm>
            <a:prstGeom prst="flowChartInputOutpu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Вывод 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a 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i , j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295360" y="2998800"/>
              <a:ext cx="20160" cy="168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315880" y="3621240"/>
              <a:ext cx="0" cy="226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421080" y="3429000"/>
              <a:ext cx="50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117440" y="2563920"/>
              <a:ext cx="2257200" cy="434880"/>
            </a:xfrm>
            <a:prstGeom prst="flowChartPreparation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i , 1, 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280880" y="3824280"/>
              <a:ext cx="2077920" cy="5558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 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i , j</a:t>
              </a: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случайное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[</a:t>
              </a: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;10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319120" y="4380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260360" y="1123920"/>
              <a:ext cx="1985400" cy="511200"/>
            </a:xfrm>
            <a:prstGeom prst="flowChartInputOutpu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Ввод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549080" y="1773360"/>
              <a:ext cx="1439640" cy="5554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 = 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268360" y="234792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268360" y="1628640"/>
              <a:ext cx="0" cy="14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269800" y="5589720"/>
              <a:ext cx="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757080" y="5156280"/>
              <a:ext cx="1584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757080" y="3429000"/>
              <a:ext cx="0" cy="172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341440" y="5013360"/>
              <a:ext cx="0" cy="1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57080" y="3429000"/>
              <a:ext cx="431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925800" y="3429000"/>
              <a:ext cx="0" cy="18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469440" y="5300640"/>
              <a:ext cx="345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 flipV="1">
              <a:off x="468360" y="2781360"/>
              <a:ext cx="1440" cy="251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68360" y="2781360"/>
              <a:ext cx="64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349440" y="2781360"/>
              <a:ext cx="79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141800" y="2781360"/>
              <a:ext cx="0" cy="280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2269440" y="5589720"/>
              <a:ext cx="187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269800" y="83664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269800" y="5732640"/>
              <a:ext cx="287280" cy="28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"/>
          <p:cNvSpPr/>
          <p:nvPr/>
        </p:nvSpPr>
        <p:spPr>
          <a:xfrm>
            <a:off x="5437080" y="3139920"/>
            <a:ext cx="2257560" cy="43524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 , 1,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588000" y="292428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726160" y="3932280"/>
            <a:ext cx="1728720" cy="555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 =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i ,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589800" y="357336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4789080" y="4797360"/>
            <a:ext cx="1801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589800" y="450864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H="1" flipV="1">
            <a:off x="4788000" y="3357360"/>
            <a:ext cx="1440" cy="143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788000" y="3357720"/>
            <a:ext cx="649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669080" y="3357720"/>
            <a:ext cx="433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8102520" y="3357720"/>
            <a:ext cx="0" cy="20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6517800" y="544500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435640" y="5661000"/>
            <a:ext cx="1985760" cy="51120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вод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518160" y="5445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516720" y="616572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492360" y="404640"/>
            <a:ext cx="54738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Нахождение суммы элементов на главной диагонали за два прохода (в случае когда речь идет только о главной диагонали и остальной массив не нуже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Минимальный элемент                                                          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44320" y="404640"/>
            <a:ext cx="791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Один или два прохода по массиву? Рассуждение втор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24000" y="906840"/>
            <a:ext cx="8496000" cy="2043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ить двумерный массив N x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учайными числами из интервала [-10 ; 10] и найти минимальный элемент лежащий на главной диагона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971640" y="3141720"/>
            <a:ext cx="7200720" cy="2563920"/>
          </a:xfrm>
          <a:prstGeom prst="rect">
            <a:avLst/>
          </a:prstGeom>
          <a:ln w="0">
            <a:noFill/>
          </a:ln>
        </p:spPr>
      </p:pic>
      <p:sp>
        <p:nvSpPr>
          <p:cNvPr id="491" name=""/>
          <p:cNvSpPr/>
          <p:nvPr/>
        </p:nvSpPr>
        <p:spPr>
          <a:xfrm>
            <a:off x="1619280" y="4005360"/>
            <a:ext cx="576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Минимальный  элемент                                                        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21040" y="366480"/>
            <a:ext cx="8538120" cy="64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000ff"/>
                </a:solidFill>
                <a:uFillTx/>
                <a:latin typeface="Times New Roman"/>
              </a:rPr>
              <a:t>Стандартный способ без анализа 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Write('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ВВеди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 N = ');Readln(n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For i:=1 to n do beg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For j:=1 to n do beg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a[i,j]:=random(2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)-10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write(a[i,j]:4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Writeln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m:=a[1,1]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For i:=1 to n 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For j:=1 to n do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if (a[i,j]&lt;m) and (i=j) then m:=a[i,j]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writeln(' Минимальный элемент =',m:5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39640" y="1341360"/>
            <a:ext cx="5545080" cy="316728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796000" y="1052640"/>
            <a:ext cx="3095640" cy="1224000"/>
          </a:xfrm>
          <a:prstGeom prst="wedgeRoundRectCallout">
            <a:avLst>
              <a:gd name="adj1" fmla="val -39694"/>
              <a:gd name="adj2" fmla="val 15661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Заполняем массив случайными числ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280" y="4508640"/>
            <a:ext cx="2089080" cy="50472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924360" y="3645000"/>
            <a:ext cx="3095640" cy="1439640"/>
          </a:xfrm>
          <a:prstGeom prst="wedgeRoundRectCallout">
            <a:avLst>
              <a:gd name="adj1" fmla="val -90412"/>
              <a:gd name="adj2" fmla="val 25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редполагаем, что минимальный элемент стоит в левом верхнем уг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987640" y="5950080"/>
            <a:ext cx="5905440" cy="50472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651640" y="1916280"/>
            <a:ext cx="3166920" cy="1944360"/>
          </a:xfrm>
          <a:prstGeom prst="wedgeRoundRectCallout">
            <a:avLst>
              <a:gd name="adj1" fmla="val -47143"/>
              <a:gd name="adj2" fmla="val 154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Если встречается элемент меньше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,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и он лежит на главной диагонали, то он становится минималь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0920" y="1268280"/>
            <a:ext cx="8713800" cy="4480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Times New Roman"/>
              </a:rPr>
              <a:t>Замечание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В данном случае можно не бегать по вс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массиву а пройти только по главной диагонали, обойдясь без вложенных цик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Courier New"/>
              </a:rPr>
              <a:t>m:=a[1,1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For i:=2 to n do</a:t>
            </a:r>
            <a:r>
              <a:rPr b="1" lang="ru-RU" sz="3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3200" spc="-1" strike="noStrike">
                <a:solidFill>
                  <a:srgbClr val="ff3300"/>
                </a:solidFill>
                <a:latin typeface="Courier New"/>
              </a:rPr>
              <a:t>if (a[i,i]&lt;m)  then m:=a[i,i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00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03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18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21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Минимальный элемент                                                         2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79280" y="620640"/>
            <a:ext cx="8661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сли немного по рассуждать,  можно увидеть, что самое «маленькое» число, которое может выдать генератор случайных чисел это 10. Все остальные числа будут меньше его. Т.к. в условии задачи нам точно задан интервал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[-10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]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0" y="404640"/>
            <a:ext cx="8893080" cy="643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ff"/>
                </a:solidFill>
                <a:uFillTx/>
                <a:latin typeface="Times New Roman"/>
              </a:rPr>
              <a:t>С анализом исходных данных за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Write('ВВеди N = ');Readln(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m:=1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For i:=1 to n do 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For j:=1 to n do 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a[i,j]:=random(21)-1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                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write(a[i,j]:4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                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if (a[i,j]&lt;m) and (i=j) then m:=a[i,j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Writel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writeln(' Минимальный элемент лежащий на главной диагонали =',m:5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79280" y="1484280"/>
            <a:ext cx="1584360" cy="50472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651640" y="1125360"/>
            <a:ext cx="3097080" cy="1727280"/>
          </a:xfrm>
          <a:prstGeom prst="wedgeRoundRectCallout">
            <a:avLst>
              <a:gd name="adj1" fmla="val -175370"/>
              <a:gd name="adj2" fmla="val -199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редполагаем, что самое маленькое число 10, правая граница исходного интерв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979640" y="2924280"/>
            <a:ext cx="6624720" cy="151272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364000" y="4653000"/>
            <a:ext cx="3097440" cy="1727280"/>
          </a:xfrm>
          <a:prstGeom prst="wedgeRoundRectCallout">
            <a:avLst>
              <a:gd name="adj1" fmla="val -120273"/>
              <a:gd name="adj2" fmla="val -631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Заполняем, выводим на экран и сразу проверяем на минимальность в главной диагон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6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63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 . Максимальный элемент в строке                                       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79280" y="403560"/>
            <a:ext cx="8785440" cy="2043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ить двумерный массив N x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учайными числами из интервала [-10 ; 10] и найти максимальный элемент в каждой строке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1"/>
          <a:stretch/>
        </p:blipFill>
        <p:spPr>
          <a:xfrm>
            <a:off x="971640" y="2349360"/>
            <a:ext cx="7345440" cy="313560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4140360" y="2997360"/>
            <a:ext cx="57600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708360" y="3284640"/>
            <a:ext cx="576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203640" y="3500280"/>
            <a:ext cx="576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643280" y="3789360"/>
            <a:ext cx="576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700360" y="4005360"/>
            <a:ext cx="576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635280" y="4292640"/>
            <a:ext cx="576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187280" y="4508640"/>
            <a:ext cx="576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195640" y="4724280"/>
            <a:ext cx="57600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Максимальный элемент в строке                                        2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90080" y="478800"/>
            <a:ext cx="87274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('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ВВеди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N = ');Readln(n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:=1 to n do 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max:=-10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j:=1 to n do 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[i,j]:=random(2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)-10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(a[i,j]:4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f (a[i,j]&gt;max) then max:= a[i,j]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('  MAx  = ',max:5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ln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187280" y="620640"/>
            <a:ext cx="6697800" cy="237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Решение в один проход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с анализом задач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826920" y="1700280"/>
            <a:ext cx="2016360" cy="50472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724360" y="1341360"/>
            <a:ext cx="3240360" cy="1366920"/>
          </a:xfrm>
          <a:prstGeom prst="wedgeRoundRectCallout">
            <a:avLst>
              <a:gd name="adj1" fmla="val -132902"/>
              <a:gd name="adj2" fmla="val -1202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редполагаем, что самое большое число - 10, левая граница исходного интерв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11280" y="1125360"/>
            <a:ext cx="4321080" cy="50508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724360" y="838080"/>
            <a:ext cx="3132360" cy="646200"/>
          </a:xfrm>
          <a:prstGeom prst="wedgeRoundRectCallout">
            <a:avLst>
              <a:gd name="adj1" fmla="val -77875"/>
              <a:gd name="adj2" fmla="val 237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еребираем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55640" y="6093000"/>
            <a:ext cx="1079640" cy="50472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627280" y="2781360"/>
            <a:ext cx="4681440" cy="107928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012000" y="1413000"/>
            <a:ext cx="3132000" cy="1224000"/>
          </a:xfrm>
          <a:prstGeom prst="wedgeRoundRectCallout">
            <a:avLst>
              <a:gd name="adj1" fmla="val -75291"/>
              <a:gd name="adj2" fmla="val 6297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Заполняем элемент массива и выводим его на экр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627280" y="3933720"/>
            <a:ext cx="6516720" cy="50508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724360" y="4724280"/>
            <a:ext cx="3203640" cy="1944720"/>
          </a:xfrm>
          <a:prstGeom prst="wedgeRoundRectCallout">
            <a:avLst>
              <a:gd name="adj1" fmla="val -55847"/>
              <a:gd name="adj2" fmla="val -65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Если в строке встречается элемент больше максимального, то он становится максималь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826920" y="4941720"/>
            <a:ext cx="4969080" cy="57636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427640" y="5516640"/>
            <a:ext cx="3203640" cy="1144440"/>
          </a:xfrm>
          <a:prstGeom prst="wedgeRoundRectCallout">
            <a:avLst>
              <a:gd name="adj1" fmla="val -81564"/>
              <a:gd name="adj2" fmla="val -498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Выводим наибольший элемент в стро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3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5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5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61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76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7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94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97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12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15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30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3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Максимальный элемент в строке                                        2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476360" y="2276640"/>
            <a:ext cx="2255760" cy="43164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 , 1,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619280" y="3645000"/>
            <a:ext cx="1985760" cy="51120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вод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i , 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627280" y="2133720"/>
            <a:ext cx="20520" cy="168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627280" y="2708280"/>
            <a:ext cx="0" cy="227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708360" y="2492280"/>
            <a:ext cx="187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403280" y="1125360"/>
            <a:ext cx="2257560" cy="43524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 , 1,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619280" y="2924280"/>
            <a:ext cx="2077920" cy="555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i , j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лучайное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-10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;10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700360" y="3500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619280" y="476280"/>
            <a:ext cx="1985760" cy="51120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вод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908000" y="1773360"/>
            <a:ext cx="1440000" cy="360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х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627280" y="1557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627280" y="981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979640" y="4292640"/>
            <a:ext cx="1440000" cy="863640"/>
          </a:xfrm>
          <a:prstGeom prst="flowChartDecisi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i , j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&gt; 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708360" y="4437000"/>
            <a:ext cx="1728720" cy="5558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x =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i , 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419640" y="472428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572000" y="501336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1116000" y="5300640"/>
            <a:ext cx="345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1116000" y="2491920"/>
            <a:ext cx="0" cy="280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00360" y="515772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700360" y="414972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116000" y="249228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580000" y="2492280"/>
            <a:ext cx="0" cy="302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826920" y="6453360"/>
            <a:ext cx="1873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826920" y="1341360"/>
            <a:ext cx="0" cy="511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826920" y="1341360"/>
            <a:ext cx="649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635280" y="1341360"/>
            <a:ext cx="2158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5796000" y="1341360"/>
            <a:ext cx="0" cy="496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2700000" y="5516640"/>
            <a:ext cx="2879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619280" y="5734080"/>
            <a:ext cx="1985760" cy="51120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вод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700360" y="5516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276720" y="4149720"/>
            <a:ext cx="4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692360" y="486900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00360" y="6237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940360" y="476280"/>
            <a:ext cx="2989440" cy="1769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Нахождение максимального элемента в каждой строке в один прохо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627280" y="33336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003640" y="6308640"/>
            <a:ext cx="1584360" cy="360360"/>
          </a:xfrm>
          <a:prstGeom prst="flowChartTermina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Применение.                                                                             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6480000" cy="3305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90120" y="476280"/>
            <a:ext cx="81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Использование двумерных массивов для построения поверх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067280" y="1268280"/>
            <a:ext cx="4600440" cy="5162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11280" y="836640"/>
            <a:ext cx="761832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Максимальный элемент в строке                                         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79280" y="549360"/>
            <a:ext cx="8640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ClrScr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Write(‘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Введи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N = ');Readln(n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For i:=1 to n do 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For j:=1 to n do 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a[i,j]:=random(2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)-10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                 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write(a[i,j]:4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               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writeln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end;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50920" y="3645000"/>
            <a:ext cx="3203640" cy="1144440"/>
          </a:xfrm>
          <a:prstGeom prst="wedgeRoundRectCallout">
            <a:avLst>
              <a:gd name="adj1" fmla="val 73833"/>
              <a:gd name="adj2" fmla="val -1196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Заполняем массив и выводим его на экр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79280" y="620640"/>
            <a:ext cx="871380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For i:=1 to n do 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max:=a[i,1]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For j:=2 to n do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if (a[i,j]&gt;max) then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max:= a[i,j]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writeln('В ',i,' строке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max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   = ',max:5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50920" y="692280"/>
            <a:ext cx="4321080" cy="50472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50920" y="3500280"/>
            <a:ext cx="1152360" cy="50508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68360" y="1268280"/>
            <a:ext cx="2663640" cy="50508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39640" y="1844640"/>
            <a:ext cx="8209080" cy="107964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55640" y="2924280"/>
            <a:ext cx="7993080" cy="50472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435640" y="549360"/>
            <a:ext cx="3132000" cy="646200"/>
          </a:xfrm>
          <a:prstGeom prst="wedgeRoundRectCallout">
            <a:avLst>
              <a:gd name="adj1" fmla="val -77875"/>
              <a:gd name="adj2" fmla="val 237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еребираем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508720" y="404640"/>
            <a:ext cx="3456000" cy="1511640"/>
          </a:xfrm>
          <a:prstGeom prst="wedgeRoundRectCallout">
            <a:avLst>
              <a:gd name="adj1" fmla="val -118351"/>
              <a:gd name="adj2" fmla="val 2352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редполагаем, что наибольший элемент в каждой строке стоит на первом мес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580000" y="3573360"/>
            <a:ext cx="3240000" cy="1943280"/>
          </a:xfrm>
          <a:prstGeom prst="wedgeRoundRectCallout">
            <a:avLst>
              <a:gd name="adj1" fmla="val -67097"/>
              <a:gd name="adj2" fmla="val -82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Идем по строке и если находим элемент больший чем максимальный, то он становится максималь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268360" y="4292640"/>
            <a:ext cx="3167280" cy="936720"/>
          </a:xfrm>
          <a:prstGeom prst="wedgeRoundRectCallout">
            <a:avLst>
              <a:gd name="adj1" fmla="val 6592"/>
              <a:gd name="adj2" fmla="val -1398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Вывод наибольшего элемента в стро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547640" y="692280"/>
            <a:ext cx="6336000" cy="280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Стандартным способ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первый проход – заполнен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второй проход – поис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максимального в стро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46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2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7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73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76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91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94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0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1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27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30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Максимальный элемент в строке                                        3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852480" y="2495520"/>
            <a:ext cx="2255760" cy="43200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j , 1,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990720" y="3814920"/>
            <a:ext cx="1985760" cy="51084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вод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i , 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004840" y="2281320"/>
            <a:ext cx="20880" cy="168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025720" y="2903400"/>
            <a:ext cx="0" cy="227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130560" y="2711520"/>
            <a:ext cx="504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826920" y="1846440"/>
            <a:ext cx="2257560" cy="43488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 , 1,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990720" y="3106800"/>
            <a:ext cx="2077920" cy="555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i , j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лучайное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-10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;10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028960" y="3662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971640" y="1125360"/>
            <a:ext cx="1985760" cy="51120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вод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978200" y="16304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979640" y="48718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466200" y="443880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466560" y="2711520"/>
            <a:ext cx="0" cy="172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050920" y="429588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466560" y="271152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635280" y="2711520"/>
            <a:ext cx="0" cy="187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179280" y="4583160"/>
            <a:ext cx="345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H="1" flipV="1">
            <a:off x="177840" y="2063880"/>
            <a:ext cx="1440" cy="25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77840" y="2063880"/>
            <a:ext cx="649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059280" y="206388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851280" y="2063880"/>
            <a:ext cx="0" cy="2808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1979280" y="4871880"/>
            <a:ext cx="187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981080" y="8380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619280" y="4941720"/>
            <a:ext cx="287280" cy="28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932360" y="2349360"/>
            <a:ext cx="2255760" cy="43200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 , 2,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083280" y="2206800"/>
            <a:ext cx="20520" cy="168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083280" y="2781360"/>
            <a:ext cx="0" cy="226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7164360" y="2565360"/>
            <a:ext cx="72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859280" y="1198440"/>
            <a:ext cx="2257560" cy="43524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 , 1,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364000" y="1773360"/>
            <a:ext cx="1440000" cy="4334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х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i ,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083280" y="1630440"/>
            <a:ext cx="144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083280" y="105408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364000" y="2997360"/>
            <a:ext cx="1440000" cy="863280"/>
          </a:xfrm>
          <a:prstGeom prst="flowChartDecisi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imes New Roman"/>
              </a:rPr>
              <a:t>i , j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 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292720" y="4076640"/>
            <a:ext cx="1728720" cy="5558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x =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i , 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4571640" y="3429000"/>
            <a:ext cx="793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084720" y="3860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4571640" y="479736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4572000" y="2565360"/>
            <a:ext cx="0" cy="22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156360" y="4653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572000" y="256536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885080" y="2565360"/>
            <a:ext cx="0" cy="24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4284360" y="5950080"/>
            <a:ext cx="187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 flipH="1" flipV="1">
            <a:off x="4282560" y="1414080"/>
            <a:ext cx="1800" cy="453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282920" y="1414440"/>
            <a:ext cx="649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7091280" y="1413000"/>
            <a:ext cx="1081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H="1">
            <a:off x="6084360" y="5013360"/>
            <a:ext cx="180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076720" y="5229360"/>
            <a:ext cx="1986120" cy="51120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вод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6084720" y="5013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6227640" y="3716280"/>
            <a:ext cx="4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788000" y="306864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156360" y="57340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8172360" y="1413000"/>
            <a:ext cx="0" cy="439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012000" y="765000"/>
            <a:ext cx="287280" cy="28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187280" y="476280"/>
            <a:ext cx="1584360" cy="360360"/>
          </a:xfrm>
          <a:prstGeom prst="flowChartTermina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7380360" y="5805360"/>
            <a:ext cx="1584360" cy="360360"/>
          </a:xfrm>
          <a:prstGeom prst="flowChartTermina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79280" y="5229360"/>
            <a:ext cx="3924360" cy="1434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Нахождение максимального элемента в каждой строке в два прохо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Определение.                                                                          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550080"/>
            <a:ext cx="8713800" cy="3506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Массив 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— это пронумерованная последовательность величин одинакового типа, обозначаемая одним именем. Элементы массива располагаются в последовательных ячейках памяти, обозначаются именем массива и индексом. Каждое из значений, составляющих массив, называется его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 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компоненто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  (или 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элементом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 массива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4292640"/>
            <a:ext cx="871236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Способ организации данных, при котором каждый элемент определяется номером строки и номером столбца, на пересечении которых он расположен, называется 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двумерным массивом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Определение                                                                             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971640" y="1413000"/>
          <a:ext cx="4824000" cy="3023640"/>
        </p:xfrm>
        <a:graphic>
          <a:graphicData uri="http://schemas.openxmlformats.org/drawingml/2006/table">
            <a:tbl>
              <a:tblPr/>
              <a:tblGrid>
                <a:gridCol w="803880"/>
                <a:gridCol w="803880"/>
                <a:gridCol w="804240"/>
                <a:gridCol w="804240"/>
                <a:gridCol w="803520"/>
                <a:gridCol w="804240"/>
              </a:tblGrid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890640" y="765000"/>
            <a:ext cx="51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      2      3      4      5      6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0160" y="1700280"/>
            <a:ext cx="3787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9400" y="404640"/>
            <a:ext cx="26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В математике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446160" y="1773360"/>
            <a:ext cx="178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В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ascal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783120" y="765000"/>
            <a:ext cx="11818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4800" spc="-1" strike="noStrike" baseline="-25000">
                <a:solidFill>
                  <a:srgbClr val="ff3300"/>
                </a:solidFill>
                <a:latin typeface="Courier New"/>
              </a:rPr>
              <a:t>i</a:t>
            </a:r>
            <a:r>
              <a:rPr b="1" lang="en-US" sz="4800" spc="-1" strike="noStrike" baseline="-25000">
                <a:solidFill>
                  <a:srgbClr val="0000ff"/>
                </a:solidFill>
                <a:latin typeface="Courier New"/>
              </a:rPr>
              <a:t>;j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227640" y="2133720"/>
            <a:ext cx="237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A[</a:t>
            </a:r>
            <a:r>
              <a:rPr b="1" lang="en-US" sz="4800" spc="-1" strike="noStrike">
                <a:solidFill>
                  <a:srgbClr val="ff3300"/>
                </a:solidFill>
                <a:latin typeface="Courier New"/>
              </a:rPr>
              <a:t>i</a:t>
            </a:r>
            <a:r>
              <a:rPr b="1" lang="en-US" sz="4800" spc="-1" strike="noStrike">
                <a:solidFill>
                  <a:srgbClr val="0000ff"/>
                </a:solidFill>
                <a:latin typeface="Courier New"/>
              </a:rPr>
              <a:t>,j</a:t>
            </a: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96000" y="4149720"/>
            <a:ext cx="2879640" cy="1079640"/>
          </a:xfrm>
          <a:prstGeom prst="wedgeRoundRectCallout">
            <a:avLst>
              <a:gd name="adj1" fmla="val -117532"/>
              <a:gd name="adj2" fmla="val -1533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A[</a:t>
            </a:r>
            <a:r>
              <a:rPr b="1" lang="ru-RU" sz="4800" spc="-1" strike="noStrike">
                <a:solidFill>
                  <a:srgbClr val="ff3300"/>
                </a:solidFill>
                <a:latin typeface="Courier New"/>
              </a:rPr>
              <a:t>2</a:t>
            </a:r>
            <a:r>
              <a:rPr b="1" lang="en-US" sz="4800" spc="-1" strike="noStrike">
                <a:solidFill>
                  <a:srgbClr val="0000ff"/>
                </a:solidFill>
                <a:latin typeface="Courier New"/>
              </a:rPr>
              <a:t>,</a:t>
            </a:r>
            <a:r>
              <a:rPr b="1" lang="ru-RU" sz="48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40000" y="5084640"/>
            <a:ext cx="2879640" cy="1079640"/>
          </a:xfrm>
          <a:prstGeom prst="wedgeRoundRectCallout">
            <a:avLst>
              <a:gd name="adj1" fmla="val -58875"/>
              <a:gd name="adj2" fmla="val -34147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A[</a:t>
            </a:r>
            <a:r>
              <a:rPr b="1" lang="ru-RU" sz="4800" spc="-1" strike="noStrike">
                <a:solidFill>
                  <a:srgbClr val="ff3300"/>
                </a:solidFill>
                <a:latin typeface="Courier New"/>
              </a:rPr>
              <a:t>1</a:t>
            </a:r>
            <a:r>
              <a:rPr b="1" lang="en-US" sz="4800" spc="-1" strike="noStrike">
                <a:solidFill>
                  <a:srgbClr val="0000ff"/>
                </a:solidFill>
                <a:latin typeface="Courier New"/>
              </a:rPr>
              <a:t>,</a:t>
            </a:r>
            <a:r>
              <a:rPr b="1" lang="ru-RU" sz="48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88000" y="5445000"/>
            <a:ext cx="2879640" cy="1079640"/>
          </a:xfrm>
          <a:prstGeom prst="wedgeRoundRectCallout">
            <a:avLst>
              <a:gd name="adj1" fmla="val -59152"/>
              <a:gd name="adj2" fmla="val -204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A[</a:t>
            </a:r>
            <a:r>
              <a:rPr b="1" lang="ru-RU" sz="4800" spc="-1" strike="noStrike">
                <a:solidFill>
                  <a:srgbClr val="ff3300"/>
                </a:solidFill>
                <a:latin typeface="Courier New"/>
              </a:rPr>
              <a:t>3</a:t>
            </a:r>
            <a:r>
              <a:rPr b="1" lang="en-US" sz="4800" spc="-1" strike="noStrike">
                <a:solidFill>
                  <a:srgbClr val="0000ff"/>
                </a:solidFill>
                <a:latin typeface="Courier New"/>
              </a:rPr>
              <a:t>,</a:t>
            </a:r>
            <a:r>
              <a:rPr b="1" lang="ru-RU" sz="4800" spc="-1" strike="noStrike">
                <a:solidFill>
                  <a:srgbClr val="0000ff"/>
                </a:solidFill>
                <a:latin typeface="Courier New"/>
              </a:rPr>
              <a:t>5</a:t>
            </a: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Описани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65720" y="333360"/>
            <a:ext cx="77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Самый простой способ описания масс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907920"/>
            <a:ext cx="849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array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[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1..10,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1..20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]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of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real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2205000"/>
            <a:ext cx="2087640" cy="1008000"/>
          </a:xfrm>
          <a:prstGeom prst="wedgeRoundRectCallout">
            <a:avLst>
              <a:gd name="adj1" fmla="val -32435"/>
              <a:gd name="adj2" fmla="val -1128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Имя масс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79640" y="1916280"/>
            <a:ext cx="3097080" cy="1008000"/>
          </a:xfrm>
          <a:prstGeom prst="wedgeRoundRectCallout">
            <a:avLst>
              <a:gd name="adj1" fmla="val -2384"/>
              <a:gd name="adj2" fmla="val -8275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Количество ст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35280" y="2924280"/>
            <a:ext cx="2737080" cy="1008000"/>
          </a:xfrm>
          <a:prstGeom prst="wedgeRoundRectCallout">
            <a:avLst>
              <a:gd name="adj1" fmla="val 11657"/>
              <a:gd name="adj2" fmla="val -18417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Количество столбц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516720" y="2276640"/>
            <a:ext cx="2376360" cy="1511280"/>
          </a:xfrm>
          <a:prstGeom prst="wedgeRoundRectCallout">
            <a:avLst>
              <a:gd name="adj1" fmla="val -6314"/>
              <a:gd name="adj2" fmla="val -94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Тип данных в масси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200" y="3357720"/>
            <a:ext cx="921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a: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array [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..10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] of array [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.. 20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] of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real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1125360"/>
            <a:ext cx="505080" cy="432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43280" y="1052640"/>
            <a:ext cx="1224000" cy="576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356000" y="1052640"/>
            <a:ext cx="1224000" cy="576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659640" y="1052640"/>
            <a:ext cx="1224000" cy="576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55200" y="2421000"/>
            <a:ext cx="590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Описание как массив массив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332000" y="5157720"/>
            <a:ext cx="2448000" cy="1008000"/>
          </a:xfrm>
          <a:prstGeom prst="wedgeRoundRectCallout">
            <a:avLst>
              <a:gd name="adj1" fmla="val -30222"/>
              <a:gd name="adj2" fmla="val -1599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Одномерный масс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788000" y="4365720"/>
            <a:ext cx="3529080" cy="2087640"/>
          </a:xfrm>
          <a:prstGeom prst="wedgeRoundRectCallout">
            <a:avLst>
              <a:gd name="adj1" fmla="val -44689"/>
              <a:gd name="adj2" fmla="val -6269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Каждый элемент которого  в свою очередь является одномерным масси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1280" y="3429000"/>
            <a:ext cx="3024000" cy="6476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284720" y="3429000"/>
            <a:ext cx="3095640" cy="6476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Описание                                                                                  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" y="763560"/>
            <a:ext cx="89427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Const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m=10; n =20;</a:t>
            </a:r>
            <a:br>
              <a:rPr sz="4400"/>
            </a:b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Var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: array [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1.. m, 1.. n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] of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integer;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4080" y="333360"/>
            <a:ext cx="850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Количество строк и столбцов через констан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836640"/>
            <a:ext cx="3961080" cy="13669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03640" y="1197000"/>
            <a:ext cx="3529080" cy="1295280"/>
          </a:xfrm>
          <a:prstGeom prst="wedgeRoundRectCallout">
            <a:avLst>
              <a:gd name="adj1" fmla="val -73662"/>
              <a:gd name="adj2" fmla="val -1102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В разделе констант указываем число строк и столбц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4580280"/>
            <a:ext cx="88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Times New Roman"/>
              </a:rPr>
              <a:t>type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 t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Times New Roman"/>
              </a:rPr>
              <a:t>=array[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1..m,1..n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Times New Roman"/>
              </a:rPr>
              <a:t>] of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integer;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var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  <a:ea typeface="Times New Roman"/>
              </a:rPr>
              <a:t>a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: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  <a:ea typeface="Times New Roman"/>
              </a:rPr>
              <a:t>t;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91960" y="3860640"/>
            <a:ext cx="661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Определением нового типа дан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4653000"/>
            <a:ext cx="1511280" cy="7207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627280" y="2997360"/>
            <a:ext cx="3529080" cy="1726920"/>
          </a:xfrm>
          <a:prstGeom prst="wedgeRoundRectCallout">
            <a:avLst>
              <a:gd name="adj1" fmla="val -92870"/>
              <a:gd name="adj2" fmla="val 5009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Определяем пользовательский тип , двумерный масс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Описание                                                                                    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1125360"/>
            <a:ext cx="8964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cons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: array[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1..3,1..5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]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of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 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integer</a:t>
            </a: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=</a:t>
            </a:r>
            <a:r>
              <a:rPr b="1" lang="en-US" sz="4400" spc="-1" strike="noStrike">
                <a:solidFill>
                  <a:srgbClr val="339933"/>
                </a:solidFill>
                <a:latin typeface="Arial"/>
              </a:rPr>
              <a:t>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Arial"/>
              </a:rPr>
              <a:t>                                 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((3,-2,1,4,3)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            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                  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(-5,-9,0,3,7)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                                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(-1,2,1,-4,0));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7600" y="549360"/>
            <a:ext cx="327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Массив констан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292720" y="2492280"/>
            <a:ext cx="3600360" cy="23050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3429000"/>
            <a:ext cx="3671640" cy="2016000"/>
          </a:xfrm>
          <a:prstGeom prst="wedgeRoundRectCallout">
            <a:avLst>
              <a:gd name="adj1" fmla="val 72092"/>
              <a:gd name="adj2" fmla="val -642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Непосредственно в программе указываем значения элементов масси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24000" y="1410840"/>
            <a:ext cx="8532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 := 1 to </a:t>
            </a: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do</a:t>
            </a: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eg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j := 1 to </a:t>
            </a: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do</a:t>
            </a: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eg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('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[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', i, '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,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'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,j, 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'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]=  ')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readln(a[i, j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</a:t>
            </a: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   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7400" y="692280"/>
            <a:ext cx="653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Заполнение массива с клавиату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1484280"/>
            <a:ext cx="5977080" cy="64944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71640" y="2133720"/>
            <a:ext cx="7704000" cy="331128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24000" y="189000"/>
            <a:ext cx="6696000" cy="1152360"/>
          </a:xfrm>
          <a:prstGeom prst="wedgeRoundRectCallout">
            <a:avLst>
              <a:gd name="adj1" fmla="val -48245"/>
              <a:gd name="adj2" fmla="val 599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Цикл отвечающий за перебор строк. Берем первую, вторую и так далее стр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932360" y="5391000"/>
            <a:ext cx="3672000" cy="1467000"/>
          </a:xfrm>
          <a:prstGeom prst="wedgeRoundRectCallout">
            <a:avLst>
              <a:gd name="adj1" fmla="val -76111"/>
              <a:gd name="adj2" fmla="val -8106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Цикл отвечающий за перебор ячеек в каждой стро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87280" y="5661000"/>
            <a:ext cx="1729080" cy="57456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77800" y="5516640"/>
            <a:ext cx="120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</a:t>
            </a: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4000" y="2421000"/>
            <a:ext cx="36716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6T14:07:47Z</dcterms:created>
  <dc:creator>Юдины</dc:creator>
  <dc:description/>
  <dc:language>en-US</dc:language>
  <cp:lastModifiedBy>Юдины</cp:lastModifiedBy>
  <dcterms:modified xsi:type="dcterms:W3CDTF">2012-03-27T14:17:05Z</dcterms:modified>
  <cp:revision>117</cp:revision>
  <dc:subject/>
  <dc:title>Слайд 1</dc:title>
</cp:coreProperties>
</file>